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4EA-C744-4B12-AD3E-878560EB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BAFE-26C9-41BE-B795-EB2630E1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B825-08CE-406E-ACBA-3BBDC82C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912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1264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68560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74912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1264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6D79-1ABB-4EA1-8472-8770C9CC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1F4A-739D-45A6-B4DD-E0BBAD97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03B8-4026-4A1C-8D3F-08D29EBF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862E-482A-4B09-99E9-5A7C0E1B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1187-E475-4AEB-81F4-A35947D3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AB84-3E93-40EE-9F4B-6213FBE9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9CB7-AFB5-478D-ACAA-6532ABF9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0A44-8F59-4B41-80BE-703DF337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9F19-5524-4BE3-9BC3-00ABDA2C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4467-2A46-45FD-BCD0-46B32087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A696-BF04-4BBE-B122-4984C223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B395-707A-49E0-AAD9-723CD2CD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6B02-4EFE-43E8-961E-62810616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912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1264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68560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74912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81264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FFF1-F66E-455A-B3D0-641CCAF0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2A9-95AA-4EE5-BFD3-A0D0C8A9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0872-CC76-4DBC-96F2-3BDA2731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6A97-BB24-411A-8C05-4DA47BC5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3DC0-1828-4ABF-A1EF-F36A47B4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5BF9-FFC5-4388-8493-33BA91E1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AC3-CB0B-4290-8E1F-5605CBE3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84A8-E156-4C74-B131-E933436A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1E7B-1411-4971-8291-C261B0507307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B8CC-3333-4BE7-BD91-A1DA051DB9C0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Arial"/>
              </a:rPr>
              <a:t>Resource Support for Career Counseling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 advTm="8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6160" y="304560"/>
            <a:ext cx="8637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Related Resource Topics for Career Counseling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41480"/>
            <a:ext cx="7699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How to prepare Curriculum Vitae / E-Res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Tips for better performance in Interview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Stress Manage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Personality Develop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ITES – an overview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Group Discuss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Soft Skills for Successful Care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Career Counseling and Guidance (particularly for Placement Officer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eadership Skill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Negoti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Time Manage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Team wor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8000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902520"/>
            <a:ext cx="89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  <a:ea typeface="Times New Roman"/>
              </a:rPr>
              <a:t>How to prepare Curriculum Vitae / E-Resum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urriculum Vitae (C.V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mportance of C.V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ypes of C.V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ents of C.V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del C.V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vering Let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-Resu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.V. Writing Tip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8000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29268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Tips for better performance in Interview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finition for interview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ypes of interview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eparation for interview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rformance during and after interview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me Tips for interview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’s and Don’t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terview ques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mportant Job si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8000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Stress Manage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ccff33"/>
              </a:buClr>
              <a:buSzPct val="7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Stress means………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ff33"/>
              </a:buClr>
              <a:buSzPct val="7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Effect of Stres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ff33"/>
              </a:buClr>
              <a:buSzPct val="7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Source of stres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ff33"/>
              </a:buClr>
              <a:buSzPct val="7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Reducing Stres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ff33"/>
              </a:buClr>
              <a:buSzPct val="7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How reduce stress during interview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8000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Personality Develop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is personal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ypes of Personal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ersonality Develop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quirement towards the development of fine personal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eys to succe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8000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29268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ITES (Information Technology Enabled Services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arious ITES Secto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ice and Non-voice Call Cent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l Centre expects …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mportant areas of train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cal Transcrip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Group Discus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finition of Group Discus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erequisites of a Group Discus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enefits in Group Discus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alient featu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’s and Don’ts in Group Discus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cept criticis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ugges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pics frequently discuss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8000"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Soft Skills for Successful Career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ft Skills with special reference to I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mportance of Soft skil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mmunication Skil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riting Skil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ody langu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esentation skil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eam wor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adership skil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ime and Stress Managem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29268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Career Counseling and Guidance (particularly for Placement Officers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at is counsel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mmon factors for counsel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ments of counsel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unseling proc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unseling skil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rsonal qualities of counsel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fference between counseling and guida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8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Leadership Skill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ad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adership Sty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adership Qualit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ys to develop leadership qualit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uses for leadership fail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play your leadership by …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ff"/>
                </a:solidFill>
                <a:latin typeface="Arial"/>
                <a:ea typeface="Times New Roman"/>
              </a:rPr>
              <a:t>What is career counsel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Counseling is the means by which one person helps another through purposeful conversatio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Counseling is a method of identifying practical solution to an identified problem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8000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Negot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goti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eps in negoti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kills required for Successful negoti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pproaches to negoti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ips to make you a better negotia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8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Time Management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im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ime Manage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inciples of Time Manage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w to plan your da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blems and Solutions for Successful Time Manage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ips for Successful Time Manage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8000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is motivation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y motivation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mportance of motiv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etter motiv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w to be motivated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8000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am Wor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at is team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eam build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Key actions in team build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uccessful team behaviou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cc"/>
                </a:solidFill>
                <a:latin typeface="Arial"/>
                <a:ea typeface="Times New Roman"/>
              </a:rPr>
              <a:t>Key factors to successful performance of a team – S.C.O.R.E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rateg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ear Roles and Responsibil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en Communic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id Respons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fective Leadershi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8000">
    <p:push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437920" y="129492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Comic Sans MS"/>
              </a:rPr>
              <a:t>Questions?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8120" y="4038480"/>
            <a:ext cx="55623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66ffff"/>
                    </a:gs>
                  </a:gsLst>
                  <a:lin ang="5400000"/>
                </a:gradFill>
                <a:latin typeface="Times New Roman"/>
              </a:rPr>
              <a:t>Thank You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66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3402000"/>
          <a:ext cx="2589120" cy="345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402000"/>
                    <a:ext cx="258912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8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ff"/>
                </a:solidFill>
                <a:latin typeface="Arial"/>
                <a:ea typeface="Times New Roman"/>
              </a:rPr>
              <a:t>Need for career counsel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41480"/>
            <a:ext cx="785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o survive in this competitive environment in world, it is not important to be the best, but also to keep evolving to say the best.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8000"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6160" y="60840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Components in Career Counseling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a. Career Planning: Career profile / path,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develops performance, stress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management, etc.,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.  Career Management: Training, skill enhancement programmes et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8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6160" y="92916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The goals to achieve in Guidance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5181480"/>
            <a:ext cx="8305920" cy="990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Exploring self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Determining Valu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Setting goa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Explore the world of wor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5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Improving efficienc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6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uilding relationshi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7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Accepting responsibility for the fut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o excel in the above factors, one has to have proper guidance and motivation in an appropriate mann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8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841320"/>
            <a:ext cx="8955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SWOT Analysis: Individual, Companies,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895480"/>
            <a:ext cx="7467480" cy="24386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Strength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Weakne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  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Opportunities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Threa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895480"/>
            <a:ext cx="0" cy="2438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4038480"/>
            <a:ext cx="7467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8000">
    <p:comb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6160" y="304560"/>
            <a:ext cx="8637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Factors must remembered while selecting a career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5410440" cy="39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a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Intellige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Personal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c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Interes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d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Aptitud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e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Gend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f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g.    Soft Skills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8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areer Coaching for U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905120"/>
          <a:ext cx="8839080" cy="4205160"/>
        </p:xfrm>
        <a:graphic>
          <a:graphicData uri="http://schemas.openxmlformats.org/drawingml/2006/table">
            <a:tbl>
              <a:tblPr/>
              <a:tblGrid>
                <a:gridCol w="6553080"/>
                <a:gridCol w="228600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Career Coaching for Career Planning 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15 – 20 hours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Preparing for Aptitude Test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100 – 120 hours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Model Aptitude test and Model Interview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3 – 4 hours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Goal setting and career options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3 hours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Self awareness exercise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3 - 4 hours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English language assessment (O&amp;W)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2 – 3 hours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Introducing web learning portals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2 – 3 hours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8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Training Metho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lf Learn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roup Discus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se Stud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mall Group Discus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ntoring and Coach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llege level Learning Workshops and Semina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ass room teach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nline Test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8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04:22:38Z</dcterms:created>
  <dc:creator/>
  <dc:description/>
  <dc:language>en-US</dc:language>
  <cp:lastModifiedBy>user</cp:lastModifiedBy>
  <dcterms:modified xsi:type="dcterms:W3CDTF">2010-01-02T16:17:02Z</dcterms:modified>
  <cp:revision>0</cp:revision>
  <dc:subject/>
  <dc:title>Resource Support for Career Counseling</dc:title>
</cp:coreProperties>
</file>